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0ED-7E7E-49ED-BBEC-684A5EF3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DC7-FC6B-454E-8C72-00D17777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0A6-9E32-4520-85B6-EA603821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86E-98E8-4FFB-BF99-89F7ED09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6921-C093-477D-AA1C-5BACF55F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6315-927F-4C80-8CBB-F441A61E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2AD4-1FEF-4D98-AC93-C6AF33FF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8025-6383-4EC1-815F-9E9BE3B3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8D69-27F7-496A-928D-F103A00C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711F-A389-4F0C-A5F2-762946D0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08EA-5CC5-4D0C-B91D-44EF2159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DA8-C3DB-40D7-955C-3E5CEFFB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F395-DC46-46B5-8AA0-6E310EB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0210-0B7E-4692-9998-638BA0E3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5AD4-E1FC-4A7C-A801-2EAE62C5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94B4-26B9-44ED-9866-D1EC0940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6E73-7B3D-4929-A66A-ED5FEBCD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FB3-8215-4B3B-A7DB-8399A2D8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334-FFBC-4CC3-828C-512E645A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AEF-7A70-4CA3-9F82-AB1ED374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8F0-F90E-4700-B22E-8EFC53F9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D0A-2ABE-47E4-96BD-D111E71C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CB7-6A41-44D8-9549-62E1908D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1CD-3F52-431C-A009-2B516A0A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FBF0-A116-4B7B-822B-157944BFD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0ED7-0BC9-4641-A537-47C47763E92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Bradley Hand ITC TT-Bold"/>
              </a:rPr>
              <a:t>Le Plus-que-parfait</a:t>
            </a:r>
            <a:r>
              <a:rPr b="1" lang="en-GB" sz="4000" spc="-1" strike="noStrike">
                <a:solidFill>
                  <a:srgbClr val="000066"/>
                </a:solidFill>
                <a:latin typeface="Bradley Hand ITC TT-Bold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000066"/>
                </a:solidFill>
                <a:latin typeface="Bradley Hand ITC TT-Bold"/>
              </a:rPr>
              <a:t>(Pluperfect Tense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Bradley Hand ITC TT-Bold"/>
              </a:rPr>
              <a:t>or, how to say what you HAD done in Fren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Bradley Hand ITC TT-Bold"/>
              </a:rPr>
              <a:t>How do I form it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Bradley Hand ITC TT-Bold"/>
              </a:rPr>
              <a:t>Use the IMPERFECT auxiliary (avoir or êtr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avais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éta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tu avais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tu éta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 avait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 éta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nous avions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nous é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vous aviez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vous étie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s avaient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s étaient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Bradley Hand ITC TT-Bold"/>
              </a:rPr>
              <a:t>PLU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Bradley Hand ITC TT-Bold"/>
              </a:rPr>
              <a:t>the PAST PARTICIPLE of the verb you wan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Bradley Hand ITC TT-Bold"/>
              </a:rPr>
              <a:t>What does it look like then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parler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partir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se prépar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j’avais parlé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j’étais parti(e)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je m’étais préparé(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tu avais parlé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tu étais parti(e)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tu t’étais préparé (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il avait parlé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il était parti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il s’était préparé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elle avait parlé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elle était partie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elle s’était préparé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nous avions parlé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nous étions parti(e)s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1600" spc="-1" strike="noStrike">
                <a:solidFill>
                  <a:srgbClr val="000066"/>
                </a:solidFill>
                <a:latin typeface="Bradley Hand ITC TT-Bold"/>
              </a:rPr>
              <a:t>nous nous étionspréparé(e)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vous aviez parlé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vous étiez parti(e)(s) 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1600" spc="-1" strike="noStrike">
                <a:solidFill>
                  <a:srgbClr val="000066"/>
                </a:solidFill>
                <a:latin typeface="Bradley Hand ITC TT-Bold"/>
              </a:rPr>
              <a:t>vous vous étiez préparé(e)(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ils avaient parlé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ils étaient partis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ils s’étaient préparé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elles avaient parlé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elles étaient parties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elles s’étaient préparées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Bradley Hand ITC TT-Bold"/>
              </a:rPr>
              <a:t>What does it MEAN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The Pluperfect translates the idea of “had been” or “had been doing”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avais mangé avant de partir.     (avoir verb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i="1" lang="en-GB" sz="2400" spc="-1" strike="noStrike">
                <a:solidFill>
                  <a:srgbClr val="000066"/>
                </a:solidFill>
                <a:latin typeface="Bradley Hand ITC TT-Bold"/>
              </a:rPr>
              <a:t>I had eaten before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étais parti de bonne heure ce jour-là.    (être verb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i="1" lang="en-GB" sz="2400" spc="-1" strike="noStrike">
                <a:solidFill>
                  <a:srgbClr val="000066"/>
                </a:solidFill>
                <a:latin typeface="Bradley Hand ITC TT-Bold"/>
              </a:rPr>
              <a:t>I had left early that da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e m’étais levé de très bonne heure.    (reflexive verb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i="1" lang="en-GB" sz="2400" spc="-1" strike="noStrike">
                <a:solidFill>
                  <a:srgbClr val="000066"/>
                </a:solidFill>
                <a:latin typeface="Bradley Hand ITC TT-Bold"/>
              </a:rPr>
              <a:t>I had got up very earl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avais étudié avant de me coucher.    (avoir verb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i="1" lang="en-GB" sz="2400" spc="-1" strike="noStrike">
                <a:solidFill>
                  <a:srgbClr val="000066"/>
                </a:solidFill>
                <a:latin typeface="Bradley Hand ITC TT-Bold"/>
              </a:rPr>
              <a:t>I had been studying before going to b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Bradley Hand ITC TT-Bold"/>
              </a:rPr>
              <a:t>Traduisez..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Elle avait parlé et puis nous sommes parti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 avait déjà fini quand je suis arrivé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 avait plu pendant la nuit et tout était trempé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Elle m’a demandé si j’avais vu le film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s étaient déjà descendus quand je suis entré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She had spoken and then we lef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He had already finished when I arriv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It had rained in the night and everything was soak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She asked me if I had seen the film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They had already come down when I came 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Bradley Hand ITC TT-Bold"/>
              </a:rPr>
              <a:t>Complétez...</a:t>
            </a:r>
            <a:br>
              <a:rPr sz="4000"/>
            </a:br>
            <a:r>
              <a:rPr b="0" lang="en-GB" sz="4000" spc="-1" strike="noStrike">
                <a:solidFill>
                  <a:srgbClr val="000066"/>
                </a:solidFill>
                <a:latin typeface="Bradley Hand ITC TT-Bold"/>
              </a:rPr>
              <a:t>Maman a demandé si..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nous (f)  / déjà/ rentr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papa / lire /  rom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tu / faire / vaissel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e / promener / chi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mon frère / se couc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vous / voir / program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nous / finir / devoi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ma soeur / se le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e / sortir / ciné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nous étions déjà rentré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papa avait lu le rom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tu avais fait la vaissel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avais promené le chi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mon frère s’était couché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vous aviez vu le program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nous avions fini nos devoi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ma soeur s’était levé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étais sorti au ciné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0:36:07Z</dcterms:created>
  <dc:creator>Julia Brown</dc:creator>
  <dc:description/>
  <dc:language>en-US</dc:language>
  <cp:lastModifiedBy>scollett</cp:lastModifiedBy>
  <dcterms:modified xsi:type="dcterms:W3CDTF">2010-11-10T23:45:01Z</dcterms:modified>
  <cp:revision>3</cp:revision>
  <dc:subject/>
  <dc:title>Le Plus-que-parfait  (Pluperfect Tense)</dc:title>
</cp:coreProperties>
</file>